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5FC8-E3F6-4A03-A2DF-BE7118F4B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366D-6B08-4337-B7B1-798F578D4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EF93-FE98-4D54-83D0-50E04C39A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BB11-A7E6-435D-A61E-372636176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E3E4-C558-4365-981D-E59AEE9BF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CA6F-E2CB-456A-A0D5-64587F341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3B1D-FF6C-4F28-B262-6B10BE790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FE5C-2274-4077-BCDB-A09E4DC5D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4534-6082-4DD4-B0E2-B6F67997D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D615-C640-4553-AD1D-35512730C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9480" y="65412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CDD2-91AB-4465-A17E-EFF8082B5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96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27E5-6709-44C6-ABC0-8BA1F61B0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96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14A1-144A-4AAF-BFDF-A7B153E88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96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6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CA55-BB43-4565-892A-0907F6070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96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304560" y="4218120"/>
            <a:ext cx="655308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A7BE-7C6C-4781-B6D9-518586981C9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C466-6FFD-462C-BC69-48DB26968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5CA6-6C28-442A-B2EF-843CF01C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D12D-78C4-41F8-ABD4-DEAC4F84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C231-4193-40D3-B536-1FB18690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FC51-200B-4AB6-8DAF-A48FDA2C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0AF4-7573-4A72-B8E4-9C9572C0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C2AC-251F-419D-91B0-86FD27D5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C091-681B-4F15-BC81-BFB45485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915D-87E8-4A2A-A6FA-AFF1A247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0038-48D1-4462-8941-83751CEE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58BA-B1ED-414C-86A9-FC91176D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A42F-B81D-4149-B4CB-046152F6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08EB-5158-407E-9FF7-03CF5549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6C77-0A21-44F1-AC11-BF04E10E1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21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ГРИСАНЕ АКАДЕМСКЕ СТУДИЈЕ МЕДИЦИНЕ</a:t>
            </a:r>
            <a:br>
              <a:rPr sz="2000"/>
            </a:b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РНА МЕДИЦИНА 2</a:t>
            </a:r>
            <a:br>
              <a:rPr sz="2000"/>
            </a:b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АСТАВНА ЈЕДИНИЦА 8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СТРУМА, ТИРЕОИДИТИС, ТУМОРИ ШТИТАСТЕ ЖЛЕЗДЕ.</a:t>
            </a:r>
            <a:br>
              <a:rPr sz="3600"/>
            </a:b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ПАРАТИРЕОИДНЕ ЖЛЕЗДЕ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3430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оц. др Виолета Младен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рниста-ендокриноло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СТРУ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1295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МА (гушавост) је увећање штитасте жлезд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По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ифуз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одуларна (уни или мултинодуларн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Етиоло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фекти у биосинтези хорм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цит ј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паљења (акутна, субакутна и хроничн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и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ДИФУЗНА СТРУ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већање штитасте жлезде у целини уз одсуство ноду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аћена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нормал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функцијом штитасте жлезде (еутироидна, нетоксична или Струма дифуса симп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аћена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дисфункциј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еоидизмом (нпр. у 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еоидитис хр. Х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мот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функцијом (нпр. у М.Граве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STRUMA DIFUSA SIMPLE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-228600" y="1447560"/>
            <a:ext cx="9601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већање штитасте жлезде у целини уз одсуство нодуса при чему је функција штитасте жлезде нормал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пидемиоло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око 10% популације, однос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ж:м=8: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ндемс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&gt;10% становништва има струму, подручја са недовољном количином Ј (дневне потребе су 100-150µг јода, недостатак јода ако је дневна екскреција Ј урином &lt;10µг/дЛ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мс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обично непознатог узрока): биохемијски поремећаји у синтези тироидних хормона (транспорт јода, синтеза ТГ, органификација Ј), експозиција струмогенима (нпр. тиоцијанати из поврћа - купус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STRUMA DIFUSA SIMPL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360" y="137124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тогене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стимулација деобе тиреоцита пут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вишених концентрација/активности ТСХ (недостатк јода, биохемијски поремећаји, струмогене материје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суства имуноглобулина који се везују за ТСХ рецепторе на тиреоцити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STRUMA DIFUSA SIMPL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1371240"/>
            <a:ext cx="9753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слик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јава стру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ресивни ефекти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рахеја (сув, надражајни кашаљ, диспнеј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емберт-ов знак: погоршање диспнеје код подизања руку, стридо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Једњак (дисфаги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. 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ренс (промуклост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летора (компресија на вене врат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STRUMA DIFUSA SIMPL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05280" y="1371240"/>
            <a:ext cx="9906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ијагно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глед (инспекција и палпација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ма увећањ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већање се запажа само палпациј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пажа се приликом забацивања гла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идљива при нормалном положају гла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елика струма видљива из даљи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лтразвучни преглед (диф.дг. нодозне и дифузне струм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Т4, ТС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STRUMA DIFUSA SIMPL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360" y="11430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обично није потребна, терапијске опциј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на препарата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ј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код ендемске стру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на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Левотирокс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код спорадичне струме (ако је повишен ТСХ, код младих почети са 100µг, а код старијих са 50µ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руршка интервенција (ако постоје изразити компресивни симптом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STRUMA NODOSA 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(uninodosa, pol</a:t>
            </a:r>
            <a:r>
              <a:rPr b="1" i="1" lang="sr-CS" sz="40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nodosa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479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суство локализованог увећања ткива штитасте жлезде обично праћена еуметаболизмом (ређе хипер- или хипометаболиза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тоанатомс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тумори (моноклонско увећање), хиперцелуларност и/или цистична трансформација, хеморагије, фибро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пидемиоло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до 12% популације, чешће код жена, инциденца расте са годинама стар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STRUMA NODOSA 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(uninodosa, pol</a:t>
            </a:r>
            <a:r>
              <a:rPr b="1" i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nodos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152640" y="1295280"/>
            <a:ext cx="9296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сл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симптоматс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ресивни ефекти на трахеју, нерве ларинкса, једњак, вене врата (нагли бол и увећање сугерише појаву хеморагије у нодус, сумња на малигните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ијагноз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глед (инспекција и палпаци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лтразвучни преглед, ређе НМР или Ц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цинтиграфија штитасте жлезд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НА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спирацио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биопсиј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танком игло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STRUMA NODOSA 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(uninodosa, pol</a:t>
            </a:r>
            <a:r>
              <a:rPr b="1" i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nodos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цена малигног потенцијала нод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на Лев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оксина у циљу редукције концентрације ТСХ (не препарата јода јер може довести до Јод-Басед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љевог ефек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на радиоактивног ј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руршко лече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  <a:ea typeface="Arial"/>
              </a:rPr>
              <a:t>СИЛАБУ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1143000"/>
            <a:ext cx="9372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ниц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асификац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тиопатогенеза, клиничка слика, дијагностика и лечењ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ниц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асификац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тиопатогенеза, клиничка слика, дијагностика и лече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еоидити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еоидне неоплазм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ниција, класификац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етиопатогенеза, клиничка слика, дијагностика и лече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болизам калцијума и хормона пара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ханизам дејства и регулација  паратиреоидне функ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јагностички алгоритми за испитивање поремећаја функције пара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паратиреоидиза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ниција, класификац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етиопатогенеза, клиничка слика, дијагностика и лече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лтипле ендокрине неоплаз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ИРЕОИДИТИС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паљење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дела по ток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кутни: изазивачи бактерије, вируси, гљиве, радија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бакутни: окидач запаљења вирус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ронични: аутоимунско запаље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Акутни тиреоидити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тко, супуративно запаље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зрочници: бактерије, гљивице, радијација након примене Ј131, лекови (амиодаро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л, црвенило и оток у пределу штитасте жлезде, дисфагија, повишена температура и други системски знаци инфекције, позитиван биохуморални синдром запаљења, лимфаденопат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 захтева примену антибиотика и хируршки третм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Субакутни тиреоидити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i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de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Quervain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рануломатозно запаљење штитасте жлезде изазвано вируси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мумпс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к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и, инфлуе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, адено- и еховирус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лест траје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месе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тофиз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а фаза (тиреотоксикоза): иницијално деструкција фоликула (уз ослобађање ТГ, Т3 и Т4  и пораст њихове концентрације у плазми – хипертироксинемија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аза опоравка уз развој транзиторне хипотире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Субакутни тиреоидити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i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de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Quervain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228600" y="1447560"/>
            <a:ext cx="9601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Нагло или постепено: мигрирајући бол у врату, повишена температура, системски знаци инфекције, иницијално знаци хипертироксинемије (убрзан рад срца, презнојавање, мршављење, малаксалост), затим хипотире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јагн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зитиван биохуморални синдром запаљења (СЕ, ЦРП, фибриноген, леукоцитоз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ишене вредности тироидних хормона уз супримиран ТСХ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ска фиксација Ј13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Субакутни тиреоидити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i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de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Quervain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ировање, одмор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САИЛ (аспирин 500мг на 6 до 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некад Г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4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6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г код тежих облика болест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ета-адренергички блокатори (за контролу симптома тиреотоксикоз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евотироксин у случају пролонгиране фазе хипотиреоид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Хронични (аутоимунски) тиреоидити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228600" y="1371600"/>
            <a:ext cx="9601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утоимунско, орган-специфично запаљење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пидемиолог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чест поремећај (аутопсијски налаз 20-40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утироидних пацијената), 4-10 пута чешћи код ж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презентац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еоидитис хр. Х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мото, обично праћен хипотиреоидизм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иедел-ов хронични тиреоидитис, обично праћен еути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з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ронични тиреоидитис у склопу М.Гравес, обично праћен хипертиреоидизм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Хронични (аутоимунски) тиреоидити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81240" y="1371240"/>
            <a:ext cx="9829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ип 1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(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еоидитис хр. Х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мото тип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утироидни статус. АнтиТПО Аб +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1А: са струмом; 1Б: без стру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ип 2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(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еоидитис хр. Х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мото тип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оидни статус. АнтиТПО Аб +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2А са струмом; 2Б без струме; 2Ц: транзиторне форме (постпартална хипотиреоза, Х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т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с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з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ип 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(М. Граве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3А Хипертиреоза: АнтиТСХРАб+; АнтиТПО и АнтиТГ Аб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3Б Еутиреоза са супримираним ТСХ. АнтиТСХ–Р Аб +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3Ц Хипотиреоза; Орбитопатија; АнтиТПОАб + или 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УМОРИ ШТИТАСТЕ ЖЛЕЗД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Бенигн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оликуларни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н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Малигн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Порекла фоликуларних ћел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пила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о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ла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оше диферентова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иферентовани Ца (анапластич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Порекла Ц-ћел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дула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Примарног нееп</a:t>
            </a:r>
            <a:r>
              <a:rPr b="0" lang="sr-CS" sz="2400" spc="-1" strike="noStrike">
                <a:solidFill>
                  <a:srgbClr val="3333cc"/>
                </a:solidFill>
                <a:latin typeface="Arial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телног порек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, сарк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Секундар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Фоликуларни аденом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тироидеј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лпаб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одуси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гу бити на сцинтиграфији: афункцијски (“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лад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”), хипофункцијски, функцијски (“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п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и хиперфункцијски (“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рућ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жељна ј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 за дијагноз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ко нису сумњив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примирати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евотироксин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 прати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мњив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руршка интервенција (мушкар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б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з ра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успешна супрес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Подтипови фоликуларних адено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НВЕНЦИОНАЛ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абекуларни/солидни (ембрионал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икрофоликуларни (фетал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офоликуларни (симплек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акрофоликуларни (колоид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АРИЈАН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јалинизирајући трабекулар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нкоцитни (оксифилни и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rtle cel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деноми са папиларном хиперплазиј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функцијски (токсични) аден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типични (хиперцелуларни) аден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95480" y="0"/>
            <a:ext cx="9491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ПОРЕМЕЋАЈИ ЕНДОКРИНОГ СИСТЕ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27200" y="1454040"/>
            <a:ext cx="3260520" cy="70380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РЕМЕЋАЈИ МОРФОЛОГИЈ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209600" y="4952880"/>
            <a:ext cx="3667320" cy="178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Агенез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Ектоп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Атроф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Хипотрофија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185840" y="4400640"/>
            <a:ext cx="3691080" cy="39888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еизмењена морфолог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198440" y="2590920"/>
            <a:ext cx="3678480" cy="163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Хипертоф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Хиперплаз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еоплазија (бенигна или малигна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5124600" y="1476360"/>
            <a:ext cx="3260520" cy="70380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РЕМЕЋАЈИ        ФУНКЦИЈ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748480" y="2813040"/>
            <a:ext cx="252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Хиперфункц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5789520" y="4352760"/>
            <a:ext cx="2522520" cy="39888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ормофункц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869080" y="5619600"/>
            <a:ext cx="252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Хипофункц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847800" y="2103480"/>
            <a:ext cx="0" cy="375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5340240" y="2143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825480" y="338292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836640" y="457200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846000" y="585000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5332320" y="2986200"/>
            <a:ext cx="38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5343480" y="4572000"/>
            <a:ext cx="43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8"/>
          <p:cNvSpPr/>
          <p:nvPr/>
        </p:nvSpPr>
        <p:spPr>
          <a:xfrm>
            <a:off x="5332320" y="5783400"/>
            <a:ext cx="52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Папиларни карцином тироидеј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9829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јчешћи малигни тумори (70%),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чешћи код жена (30-40год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тохиостолошки: папиле, псам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стазе у ЛГЛ, ређе кости, мозак и плућ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длична прогно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же се дијагностиковати путем ФНА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опходна ти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декто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Фоликуларни карцином тироидеј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15-25% од свих малигних неоплазми тиреоиде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бично код старијих од 40 г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укује фоликуле богате тиреоглобули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рши инвазију капсуле тум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рши инвазију крвних суд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с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зира у плућа и к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Медуларни карцин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кла Ц ћелија (парафоликуларних ћелија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ЕТ О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г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игоналне и вретенасте ћел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трома богата амилоид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ски маркер је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лцитон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следни случајеви се јављају заједно са феохромоцитомо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Анапласти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чни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(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недиферентовани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524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пови: Џиновске ћ.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ретенасте ћ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Саркоматои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 изгле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тарије же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 и смртонос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п малих ћел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бично је у питању лимф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Лимфоми тироидеј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бично добро диферентован Б-ћелијски 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дружен са аутоимунским тиреоидитис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није називан “карцином малих ћелија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  <a:ea typeface="Arial"/>
              </a:rPr>
              <a:t>Карциноми штитасте жлезд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52280" y="997200"/>
            <a:ext cx="8788680" cy="8254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Тип тумо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      </a:t>
            </a:r>
            <a:r>
              <a:rPr b="1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налаз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       </a:t>
            </a:r>
            <a:r>
              <a:rPr b="1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метастазе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            </a:t>
            </a:r>
            <a:r>
              <a:rPr b="1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прогноз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28600" y="2215440"/>
            <a:ext cx="9050400" cy="37062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апилар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Ца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апиле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Г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одличн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Фол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улар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Ца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Фол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кул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плућ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кост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добр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Медулар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Ца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м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лоид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плућ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јетр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лош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напласт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чн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Ца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Гигантске 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дисеминациј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лош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Одређивање стадијума тумо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Дефи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ц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Т, Н, 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Одређивање стадију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ни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Тумор (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ве категорије могу бити подељене 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а) солита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тумор, (б) мултиф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тумо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X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а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тумор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 може бити процењ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0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ма знакова присуства примарног тум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 2 ц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 мање у највећој димензији, локализован у тироидеј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 &gt; 2 ц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али мањи 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 ц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у највећој димензији, локализован у тироидеј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 &gt; 4 ц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 највећој димензији локализован у тироидеј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ило које величине са екстратироидн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е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иј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е.г.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ширење на стерноклеидомастоидни мишић или перитироидно меко тки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ни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Тумор (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4а Тумор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ило којих димензија који се шири ван тироидне капсуле и врши инвазију субкутаног меког ткива, ларинкса, трахеје, езофагуса или н.рецурренс-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4б Тумор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рши инвазиј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вертебр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фасц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 каротидне артерије 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медиастин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х крвних судов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сви анапластични карциноми се класификују као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Т4 тумор</a:t>
            </a:r>
            <a:r>
              <a:rPr b="0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4а Интра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роид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анапла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ч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и је ресектабил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4б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кстратироид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анапла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ч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а који је иноперабил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Регионал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ни лимфни нодуси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(Н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154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лимфни нодуси централног компартмана врата, латерални цервикални и горњи медијастинал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ЛГЛ се не могу процен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ма метастаза у регионалним ЛГЛ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стазе у регионалним ЛГЛ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1а Метас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е до ниво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ВИ (претрахе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паратрахе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прела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ге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 ЛГ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1б Метас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нилатер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билатер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 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нтралатер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церв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л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 горње медијастиналне лимфне ноду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БОЛЕСТИ ШТИТАСТЕ ЖЛЕЗД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томиј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 физиологиј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дела болести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еоидитис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и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Удаљене метастазе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(М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даљене метастазе се не могу процен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ма удаљених метаста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сутне удаљене метаста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Лечење тироидних карцинома радиоактивним јод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арање преосталог “нормалног” тироидног тки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арење преосталих канцерогених ћел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кација удаљених метаста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изација сензитивности и специфич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серу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к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743200" y="6297480"/>
            <a:ext cx="640080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zzaferri EL, et al.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J Clin Endocrinol Metab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 2001;86:1447-1463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hen EG, et al.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Otolaryngol Clin North Am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 2003;36:129-157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457560" y="0"/>
            <a:ext cx="9906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Супресија ТСХ у особа са тироидним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карциноми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282600" y="1598760"/>
            <a:ext cx="8556120" cy="4398120"/>
            <a:chOff x="282600" y="1598760"/>
            <a:chExt cx="8556120" cy="4398120"/>
          </a:xfrm>
        </p:grpSpPr>
        <p:sp>
          <p:nvSpPr>
            <p:cNvPr id="147" name="Text Box 4"/>
            <p:cNvSpPr/>
            <p:nvPr/>
          </p:nvSpPr>
          <p:spPr>
            <a:xfrm>
              <a:off x="1462320" y="2209680"/>
              <a:ext cx="1448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200" spc="-1" strike="noStrike">
                  <a:solidFill>
                    <a:srgbClr val="000000"/>
                  </a:solidFill>
                  <a:latin typeface="Times New Roman"/>
                </a:rPr>
                <a:t>Хипофиза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ТСХ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AutoShape 5"/>
            <p:cNvSpPr/>
            <p:nvPr/>
          </p:nvSpPr>
          <p:spPr>
            <a:xfrm>
              <a:off x="282600" y="2371680"/>
              <a:ext cx="914400" cy="2666880"/>
            </a:xfrm>
            <a:custGeom>
              <a:avLst/>
              <a:gdLst>
                <a:gd name="textAreaLeft" fmla="*/ 122400 w 914400"/>
                <a:gd name="textAreaRight" fmla="*/ 792000 w 914400"/>
                <a:gd name="textAreaTop" fmla="*/ 466560 h 2666880"/>
                <a:gd name="textAreaBottom" fmla="*/ 193356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AutoShape 6"/>
            <p:cNvSpPr/>
            <p:nvPr/>
          </p:nvSpPr>
          <p:spPr>
            <a:xfrm flipH="1" flipV="1">
              <a:off x="3159000" y="2117880"/>
              <a:ext cx="914400" cy="2666880"/>
            </a:xfrm>
            <a:custGeom>
              <a:avLst/>
              <a:gdLst>
                <a:gd name="textAreaLeft" fmla="*/ 122400 w 914400"/>
                <a:gd name="textAreaRight" fmla="*/ 792000 w 914400"/>
                <a:gd name="textAreaTop" fmla="*/ 466920 h 2666880"/>
                <a:gd name="textAreaBottom" fmla="*/ 193392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7"/>
            <p:cNvSpPr/>
            <p:nvPr/>
          </p:nvSpPr>
          <p:spPr>
            <a:xfrm>
              <a:off x="1430280" y="4579920"/>
              <a:ext cx="1511280" cy="8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r>
                <a:rPr b="1" lang="sr-Latn-CS" sz="22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r>
                <a:rPr b="1" lang="sr-Latn-CS" sz="22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оид</a:t>
              </a:r>
              <a:r>
                <a:rPr b="1" lang="sr-Latn-CS" sz="2200" spc="-1" strike="noStrike">
                  <a:solidFill>
                    <a:srgbClr val="000000"/>
                  </a:solidFill>
                  <a:latin typeface="Times New Roman"/>
                </a:rPr>
                <a:t>еа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8"/>
            <p:cNvSpPr/>
            <p:nvPr/>
          </p:nvSpPr>
          <p:spPr>
            <a:xfrm>
              <a:off x="3370680" y="2562120"/>
              <a:ext cx="273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9"/>
            <p:cNvSpPr/>
            <p:nvPr/>
          </p:nvSpPr>
          <p:spPr>
            <a:xfrm>
              <a:off x="728280" y="4314960"/>
              <a:ext cx="339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Group 10"/>
            <p:cNvGrpSpPr/>
            <p:nvPr/>
          </p:nvGrpSpPr>
          <p:grpSpPr>
            <a:xfrm>
              <a:off x="6278400" y="4352760"/>
              <a:ext cx="998640" cy="1322640"/>
              <a:chOff x="6278400" y="4352760"/>
              <a:chExt cx="998640" cy="1322640"/>
            </a:xfrm>
          </p:grpSpPr>
          <p:sp>
            <p:nvSpPr>
              <p:cNvPr id="154" name="Line 11"/>
              <p:cNvSpPr/>
              <p:nvPr/>
            </p:nvSpPr>
            <p:spPr>
              <a:xfrm>
                <a:off x="6286320" y="4352760"/>
                <a:ext cx="990720" cy="12956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12"/>
              <p:cNvSpPr/>
              <p:nvPr/>
            </p:nvSpPr>
            <p:spPr>
              <a:xfrm flipH="1">
                <a:off x="6278400" y="4379760"/>
                <a:ext cx="990720" cy="12956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Text Box 13"/>
            <p:cNvSpPr/>
            <p:nvPr/>
          </p:nvSpPr>
          <p:spPr>
            <a:xfrm>
              <a:off x="6274080" y="2209680"/>
              <a:ext cx="1448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200" spc="-1" strike="noStrike">
                  <a:solidFill>
                    <a:srgbClr val="000000"/>
                  </a:solidFill>
                  <a:latin typeface="Times New Roman"/>
                </a:rPr>
                <a:t>Хипофиза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ТСХ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AutoShape 14"/>
            <p:cNvSpPr/>
            <p:nvPr/>
          </p:nvSpPr>
          <p:spPr>
            <a:xfrm>
              <a:off x="4896000" y="2363760"/>
              <a:ext cx="914400" cy="2666880"/>
            </a:xfrm>
            <a:custGeom>
              <a:avLst/>
              <a:gdLst>
                <a:gd name="textAreaLeft" fmla="*/ 122400 w 914400"/>
                <a:gd name="textAreaRight" fmla="*/ 792000 w 914400"/>
                <a:gd name="textAreaTop" fmla="*/ 466560 h 2666880"/>
                <a:gd name="textAreaBottom" fmla="*/ 193356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AutoShape 15"/>
            <p:cNvSpPr/>
            <p:nvPr/>
          </p:nvSpPr>
          <p:spPr>
            <a:xfrm flipH="1" flipV="1">
              <a:off x="7772400" y="2109960"/>
              <a:ext cx="914400" cy="2666880"/>
            </a:xfrm>
            <a:custGeom>
              <a:avLst/>
              <a:gdLst>
                <a:gd name="textAreaLeft" fmla="*/ 122400 w 914400"/>
                <a:gd name="textAreaRight" fmla="*/ 792000 w 914400"/>
                <a:gd name="textAreaTop" fmla="*/ 466920 h 2666880"/>
                <a:gd name="textAreaBottom" fmla="*/ 193392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6"/>
            <p:cNvSpPr/>
            <p:nvPr/>
          </p:nvSpPr>
          <p:spPr>
            <a:xfrm>
              <a:off x="6043680" y="4572000"/>
              <a:ext cx="1510920" cy="8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sr-Latn-CS" sz="2200" spc="-1" strike="noStrike">
                  <a:solidFill>
                    <a:srgbClr val="000000"/>
                  </a:solidFill>
                  <a:latin typeface="Times New Roman"/>
                </a:rPr>
                <a:t>иреоидеа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7"/>
            <p:cNvSpPr/>
            <p:nvPr/>
          </p:nvSpPr>
          <p:spPr>
            <a:xfrm>
              <a:off x="7984080" y="2554200"/>
              <a:ext cx="273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8"/>
            <p:cNvSpPr/>
            <p:nvPr/>
          </p:nvSpPr>
          <p:spPr>
            <a:xfrm>
              <a:off x="5341320" y="4307040"/>
              <a:ext cx="339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Group 19"/>
            <p:cNvGrpSpPr/>
            <p:nvPr/>
          </p:nvGrpSpPr>
          <p:grpSpPr>
            <a:xfrm>
              <a:off x="7959240" y="2538360"/>
              <a:ext cx="309600" cy="393840"/>
              <a:chOff x="7959240" y="2538360"/>
              <a:chExt cx="309600" cy="393840"/>
            </a:xfrm>
          </p:grpSpPr>
          <p:sp>
            <p:nvSpPr>
              <p:cNvPr id="163" name="Line 20"/>
              <p:cNvSpPr/>
              <p:nvPr/>
            </p:nvSpPr>
            <p:spPr>
              <a:xfrm>
                <a:off x="7961760" y="2538360"/>
                <a:ext cx="307080" cy="38592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Line 21"/>
              <p:cNvSpPr/>
              <p:nvPr/>
            </p:nvSpPr>
            <p:spPr>
              <a:xfrm flipH="1">
                <a:off x="7959240" y="2546280"/>
                <a:ext cx="307080" cy="38592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Text Box 22"/>
            <p:cNvSpPr/>
            <p:nvPr/>
          </p:nvSpPr>
          <p:spPr>
            <a:xfrm>
              <a:off x="1402200" y="1598760"/>
              <a:ext cx="1600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ормал</a:t>
              </a:r>
              <a:r>
                <a:rPr b="1" lang="sr-Latn-C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о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23"/>
            <p:cNvSpPr/>
            <p:nvPr/>
          </p:nvSpPr>
          <p:spPr>
            <a:xfrm>
              <a:off x="4648320" y="1600200"/>
              <a:ext cx="4190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ацијенти са тиреоидним Ца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24"/>
            <p:cNvSpPr/>
            <p:nvPr/>
          </p:nvSpPr>
          <p:spPr>
            <a:xfrm>
              <a:off x="6207120" y="2359080"/>
              <a:ext cx="0" cy="6094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25"/>
            <p:cNvSpPr/>
            <p:nvPr/>
          </p:nvSpPr>
          <p:spPr>
            <a:xfrm flipV="1">
              <a:off x="5445000" y="4989600"/>
              <a:ext cx="565200" cy="3045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26"/>
            <p:cNvSpPr/>
            <p:nvPr/>
          </p:nvSpPr>
          <p:spPr>
            <a:xfrm>
              <a:off x="3314520" y="4896000"/>
              <a:ext cx="2192400" cy="11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инимум ЛТ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а 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би се супримирао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СХ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без изазивања 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реотоксикозе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Rectangle 27"/>
          <p:cNvSpPr/>
          <p:nvPr/>
        </p:nvSpPr>
        <p:spPr>
          <a:xfrm>
            <a:off x="5410080" y="6172200"/>
            <a:ext cx="373392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raverman LE, Utiger RD, eds. 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Werner &amp; Ingbar’s The Thyroid: A Fundamental and Clinical Text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8th ed. Philadelphia, Pa: Lippincott, Williams &amp; Wilkins; 2000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zzaferri EL, et al. 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J Clin Endocrinol Metab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2001;86:1447-1463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herman SI. 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Lancet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2003;361:501-511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Циљани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ТСХ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током супресиј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309400" y="3335400"/>
            <a:ext cx="7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0.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4956120" y="33354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1-0.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7692840" y="33354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5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552680" y="2116080"/>
            <a:ext cx="242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Низак или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недетактибилан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218840" y="2116080"/>
            <a:ext cx="257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упр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миран, али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те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аб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лан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7269120" y="2133720"/>
            <a:ext cx="163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иско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ормала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4389480" y="4325760"/>
            <a:ext cx="254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Већина пацијената код којих болест није евидентн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1557360" y="434664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ерсистент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рецурент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на болес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Пацијенти са високим ризико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6918480" y="4329000"/>
            <a:ext cx="210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Пацијенти са врло малим ризико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Дуго година након операциј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426600" y="3182760"/>
            <a:ext cx="106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H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U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239400" y="474192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цијент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4"/>
          <p:cNvSpPr/>
          <p:nvPr/>
        </p:nvSpPr>
        <p:spPr>
          <a:xfrm>
            <a:off x="490680" y="3030480"/>
            <a:ext cx="845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5"/>
          <p:cNvSpPr/>
          <p:nvPr/>
        </p:nvSpPr>
        <p:spPr>
          <a:xfrm>
            <a:off x="1557360" y="2573280"/>
            <a:ext cx="0" cy="352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4300560" y="2057400"/>
            <a:ext cx="2362320" cy="1905120"/>
          </a:xfrm>
          <a:prstGeom prst="rect">
            <a:avLst/>
          </a:prstGeom>
          <a:noFill/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4175280" y="1523880"/>
            <a:ext cx="25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птима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ТС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0" y="6224760"/>
            <a:ext cx="70102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zzaferri EL, et al. 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J Clin Endocrinol Metab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2001;86:1447-1463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herman SI. 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Lancet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2003;361:501-511.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raverman LE, Utiger RD, eds. 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Werner &amp; Ingbar’s The Thyroid: A Fundamental and Clinical Text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8th ed. Philadelphia, Pa: Lippincott, Williams &amp; Wilkins; 2000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6699240" y="4952880"/>
            <a:ext cx="533520" cy="551160"/>
          </a:xfrm>
          <a:prstGeom prst="downArrow">
            <a:avLst>
              <a:gd name="adj1" fmla="val 50000"/>
              <a:gd name="adj2" fmla="val 258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5886720" y="550548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блaц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-685800" y="54990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о и УЗ праћењ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2000160" y="4952880"/>
            <a:ext cx="533520" cy="551160"/>
          </a:xfrm>
          <a:prstGeom prst="downArrow">
            <a:avLst>
              <a:gd name="adj1" fmla="val 50000"/>
              <a:gd name="adj2" fmla="val 258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-228600" y="0"/>
            <a:ext cx="9677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Тироидни карцино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м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 – стратегија лечењ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3969360" y="290988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ирург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5175360" y="4043520"/>
            <a:ext cx="353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отална тиреидектом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740520" y="40384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обоистмектом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6172200" y="2895480"/>
            <a:ext cx="32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термедијални 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исок ризи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345960" y="31240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изак ризи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2743920" y="137160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гн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 тироидног Ц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3"/>
          <p:cNvSpPr/>
          <p:nvPr/>
        </p:nvSpPr>
        <p:spPr>
          <a:xfrm>
            <a:off x="4413240" y="2133720"/>
            <a:ext cx="685800" cy="787320"/>
          </a:xfrm>
          <a:prstGeom prst="downArrow">
            <a:avLst>
              <a:gd name="adj1" fmla="val 50000"/>
              <a:gd name="adj2" fmla="val 2870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14"/>
          <p:cNvSpPr/>
          <p:nvPr/>
        </p:nvSpPr>
        <p:spPr>
          <a:xfrm rot="18993600">
            <a:off x="3123720" y="3504960"/>
            <a:ext cx="914400" cy="620640"/>
          </a:xfrm>
          <a:prstGeom prst="leftArrow">
            <a:avLst>
              <a:gd name="adj1" fmla="val 50000"/>
              <a:gd name="adj2" fmla="val 36833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5"/>
          <p:cNvSpPr/>
          <p:nvPr/>
        </p:nvSpPr>
        <p:spPr>
          <a:xfrm flipH="1" rot="2606400">
            <a:off x="5427000" y="3351240"/>
            <a:ext cx="914040" cy="638280"/>
          </a:xfrm>
          <a:prstGeom prst="leftArrow">
            <a:avLst>
              <a:gd name="adj1" fmla="val 50000"/>
              <a:gd name="adj2" fmla="val 3580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6"/>
          <p:cNvSpPr/>
          <p:nvPr/>
        </p:nvSpPr>
        <p:spPr>
          <a:xfrm>
            <a:off x="1676520" y="6324480"/>
            <a:ext cx="74674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inder BK.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urr Opin Oncol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 2003;15):71-77. Sherman SI.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ance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2003;361:501-511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zzaferri EL, et al.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J Clin Endocrinol Metab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 2001;86:1447-1463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Стандард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ни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ретм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н 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тироидних карцино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067440" y="5562720"/>
            <a:ext cx="315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b050"/>
                </a:solidFill>
                <a:latin typeface="Arial"/>
                <a:ea typeface="Arial"/>
              </a:rPr>
              <a:t>“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Whole Body</a:t>
            </a:r>
            <a:r>
              <a:rPr b="1" lang="sr-Latn-CS" sz="1600" spc="-1" strike="noStrike">
                <a:solidFill>
                  <a:srgbClr val="ff0000"/>
                </a:solidFill>
                <a:latin typeface="Arial"/>
                <a:ea typeface="Arial"/>
              </a:rPr>
              <a:t>”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1600" spc="-1" strike="noStrike">
                <a:solidFill>
                  <a:srgbClr val="ff0000"/>
                </a:solidFill>
                <a:latin typeface="Arial"/>
                <a:ea typeface="Arial"/>
              </a:rPr>
              <a:t>сцинт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r>
              <a:rPr b="1" lang="sr-Latn-CS" sz="1600" spc="-1" strike="noStrike">
                <a:solidFill>
                  <a:srgbClr val="ff0000"/>
                </a:solidFill>
                <a:latin typeface="Arial"/>
                <a:ea typeface="Arial"/>
              </a:rPr>
              <a:t>графiј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  <a:ea typeface="Arial"/>
              </a:rPr>
              <a:t>Одrеђивaњe ТГ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и </a:t>
            </a:r>
            <a:r>
              <a:rPr b="1" lang="sr-Latn-CS" sz="1600" spc="-1" strike="noStrike">
                <a:solidFill>
                  <a:srgbClr val="ff0000"/>
                </a:solidFill>
                <a:latin typeface="Arial"/>
                <a:ea typeface="Arial"/>
              </a:rPr>
              <a:t>АнтиT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Г</a:t>
            </a:r>
            <a:r>
              <a:rPr b="1" lang="sr-Latn-CS" sz="1600" spc="-1" strike="noStrike">
                <a:solidFill>
                  <a:srgbClr val="ff0000"/>
                </a:solidFill>
                <a:latin typeface="Arial"/>
                <a:ea typeface="Arial"/>
              </a:rPr>
              <a:t> Aб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314240" y="4083120"/>
            <a:ext cx="209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пресион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94280" y="1568520"/>
            <a:ext cx="276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ота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еоидектом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5043600" y="533412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годишњ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2765880" y="2724120"/>
            <a:ext cx="153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блaц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8"/>
          <p:cNvSpPr/>
          <p:nvPr/>
        </p:nvSpPr>
        <p:spPr>
          <a:xfrm rot="7719600">
            <a:off x="6107400" y="4825080"/>
            <a:ext cx="470160" cy="725760"/>
          </a:xfrm>
          <a:prstGeom prst="upArrow">
            <a:avLst>
              <a:gd name="adj1" fmla="val 50000"/>
              <a:gd name="adj2" fmla="val 385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9"/>
          <p:cNvSpPr/>
          <p:nvPr/>
        </p:nvSpPr>
        <p:spPr>
          <a:xfrm rot="7719600">
            <a:off x="4013640" y="3529440"/>
            <a:ext cx="469800" cy="725400"/>
          </a:xfrm>
          <a:prstGeom prst="upArrow">
            <a:avLst>
              <a:gd name="adj1" fmla="val 50000"/>
              <a:gd name="adj2" fmla="val 3860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10"/>
          <p:cNvSpPr/>
          <p:nvPr/>
        </p:nvSpPr>
        <p:spPr>
          <a:xfrm rot="7719600">
            <a:off x="2602440" y="2462760"/>
            <a:ext cx="469800" cy="725400"/>
          </a:xfrm>
          <a:prstGeom prst="upArrow">
            <a:avLst>
              <a:gd name="adj1" fmla="val 50000"/>
              <a:gd name="adj2" fmla="val 3860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0" y="6172200"/>
            <a:ext cx="8763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hen EG, et al.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Otolaryngol Clin North A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 2003;36:129-157. Mazzaferri EL, et al.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J Clin Endocrinol Metab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 2003;88:1433-1441. Sherman SI.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ance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 2003;361:501-511.  Mazzaferri EL, et al.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J Clin Endocrinol Metab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 2001;86:1447-1463. Mazzaferri EL, et al.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ndocr Relat Cance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 2002;9(4):227-247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ПАРАТИРЕОИДНЕ ЖЛЕЗД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дела боле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штита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жлез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паратиреои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паратиреои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Ивар Сандстро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веђанин, студент медици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ткрио параштитасте жлезд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следњи велики орга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ји је идентификован код љу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аратироидни хормо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кретују га главн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и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араштитасте жлезде као протеин сачињен од 84 аминокисел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Параштитасте жлезд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81240" y="1295280"/>
            <a:ext cx="9296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r>
              <a:rPr b="1" lang="sl-SI" sz="2400" spc="-1" strike="noStrike">
                <a:solidFill>
                  <a:srgbClr val="ff0000"/>
                </a:solidFill>
                <a:latin typeface="Arial"/>
                <a:ea typeface="Arial"/>
              </a:rPr>
              <a:t>Хиперпаратиреоид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арни: аденом, карцином, хиперплазија ПТЖ (хиперпродукција ПТ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екундарни: хронична хипоклациемија (физиолошки одговор - пораст продукције ПТ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ерцијал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ктопична продукција (ПТХ, ПТХр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r>
              <a:rPr b="1" lang="sl-SI" sz="2400" spc="-1" strike="noStrike">
                <a:solidFill>
                  <a:srgbClr val="ff0000"/>
                </a:solidFill>
                <a:latin typeface="Arial"/>
                <a:ea typeface="Arial"/>
              </a:rPr>
              <a:t>Хипопаратиреоид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ар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сеудохипопаратиреоидиза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(резистенција периферних ткива на ПТ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сеудопсеудохипопаратиреоид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ироидна жлез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3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мештена испод и испред ларинкс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ма два лобуса повезаних истмусо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ои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ф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лику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р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зво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ироидне хормо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р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н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тет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до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ронин (Т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р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до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ронин (Т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ба повећавају интезитет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стимулишу синтезу протеина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ћавају употребу гликозе и масних киселина за продукцију АТП-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фо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улар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ћел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Ц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ћел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лцитон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Ц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 крви тако што инхибира реапсорпцију кост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Хиперкалцием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228960" y="99072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кована порем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јима пар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итасте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марни хиперпаратиреоидиз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ерапија литијум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фамилијарна хипокалциурична хиперкалци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Малигнит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олидни тумо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ем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нколошке боле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Суфици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тами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грануломатозне боле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Убрзан метаболизам кост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пертирео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обилиз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ипервитамино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Бубрежна слаб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екундарни хиперпаратиреоидиз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ерапија алумињум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лечно-алкални синд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ХПТ је стање хроничне хиперкалциемије која је резултат повећаног и неконтролисаног лучења ПТХ због хиперфункције једне или више ПТЖ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тиолог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аденом (81%), карцином (4%), хиперплазија ПТЖ  (спорадично или у оквиру 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457200" y="1219320"/>
            <a:ext cx="9601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атофизиолог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иохемијске промен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хиперкалциемија, хипофосфатемија, хиперкалциурија, снижење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4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порас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дехидратација, хиперхлоремијска ацидоза (повећано лучењ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CO3-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уз задржавањ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мускуларни поремећај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мишићна слабост, анорексија, повраћање, опстипација, скраћен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QТ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интерв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сихички поремећај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емоционална нестабилност, депресија, псих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убрежни поремећај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смањена концентрациона способност (полиурија, никтурија), уролитија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оштани систем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повећана реапсорпција кост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Ет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олитарни аде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аратироидни карци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лтип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енд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еоп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иперсекрец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Т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доводи д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иперкалцием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ипофосфатем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линичка слика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80%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је асимптоматс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пшти симптоми и симптоми ЦНС-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мор, депресија, конфузност, заборавност, емоционална нестабилност, депресија сомноленциј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Г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Губитак апетита, мршављење, мука, повраћање, улкусна болест, панкреатитис, опстипациј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УГ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епозити калцијума и уролитијаза (60-70% пацијена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лиурија, полидипсиј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лкулоза уротра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пструкција уротра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Прим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5943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линичка слик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В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краћивањ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интерва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К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степор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еитис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већана активност остеокла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већан метаболизам кост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едукција густине кост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-305280" y="1295280"/>
            <a:ext cx="9906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аратироидна кри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гли пораст хиперкалциемије и погоршање општег ста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убрежна слабост због нефрокалцин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ма, срчани засто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-228960" y="1371240"/>
            <a:ext cx="9372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гн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вишене вредности серумско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Т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иперкалцием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изак или ниско-нормалан фосфат у серуму (смањена реапсорпција у проксималним тубулима), повишен клиренс фосфата, хипомагнеземија, хиперхлоремија, метаболичка ацидо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више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,25(ОH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Морфолошка испитива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лтразвучни преглед вр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цинтиграфија ПТЖ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м-тех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 сестамиб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81240" y="1142640"/>
            <a:ext cx="9753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Хируршка интервен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иперкалци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стеопороза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-sc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-2.5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лкулоза бубре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Медикаментни третм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докнада волу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лакашвање калциурез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иуретици Хенлеове петљ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и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а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мањена реапсорпција кост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лцитон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ормонска терап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Рал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ф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Цитостатици: Митрамиц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Секунд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-457560" y="1447560"/>
            <a:ext cx="9829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ХПТ је хиперфункција свих ПТЖ због хроничне хипокалциемије (ПТЖ су примарно нормалне, али временом може доћи до њихове хиперплазиј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Ет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раст фосфата у акутној или хроничној инсуфицијенцији бубрега (ГФР&lt;40мл/м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ефици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м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ли резистенција ткива на Витамин 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мањење апсорпције калцијума у ГИТ-у (малапсорптивни синдром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ипомагнез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Лекови: лаксативи, фенитоин, фенобарбитон, холестирам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сеудохипопаратиреоид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-228600" y="380880"/>
            <a:ext cx="9906120" cy="66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5920" indent="-558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yrox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traiodothyron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T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iiodothyron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T3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днос секреције Т4:T3  je 15: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4 и T3 се ослобађају и транспортују везани за серумске     протеине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yroxine-Binding Globulin (TBG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5 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yroxine-Binding Prealbum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TBP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bum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зроци ↑ TBG: трудноћа, Е, цироза јетре, хепатитис, порфир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зроци ↓TBG: нефротски синдром, хепатична инсуфицијенција, високе дозе ГКС, протеинска малнутриц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Секунд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линичка слик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лцификати у меким ткив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вра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мене на костима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н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е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фиј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9068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еомалац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иски калцијум и витам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9068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еитис фиброса ц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виш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Т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Секунд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редства која везују фосфа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упституција калцијум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там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 његови аналоз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гати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eed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 транскрипциј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ТХ ге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nacalc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sipar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Терцијални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ерцијални хиперпаратиреоидизам настаје током секундарног хиперпаратиреоидизма и у основи је секундарни хиперпаратиреоидизам који више не реагује на примену лек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тална стимулација хипокалциемијом доводи до хиперплазије ПТЖ, а временом на том терену може да се развије аутономни аде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Терцијални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-228960" y="1295280"/>
            <a:ext cx="9372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чешће се развија  након трансплантације бубрега када хипертрофисане ПТЖ настављају са појачаном и неконтролисаном секрециј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ТХ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мена “тачке избора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Као и секундарни хиперпаратиреоидизам, уз појачање болова у костима и свраба, те појаву слабости и лаког замара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лабораторијски пораст калцијума уз ↑фосфа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као и секундарни облик, али може бити индикована и хируршка интервенција (одстрањење аденоматозно измењених ПТЖ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о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228960" y="1523520"/>
            <a:ext cx="9372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тање хроничне хипокалциемије и хиперфосфатемије због смањене активности ПТХ збо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е синтезе ПТ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нтеза биолошки неактивног ПТ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зостанак одговора периферног ткива на ПТ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о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тиолог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а секреција ПТ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диопатски обли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екундарни облици: урођени (удружен са ДиГеорге-овим синдромом) или стечени (хируршко одстрањење ПТЖ, зрачење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механизми, инфилтартивне болести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Лучење биолошки неактивног ПТ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утација гена за ПТХ (артефицијално изазвана хипокалциемија доводи до пораста ПТХ, али без биолошког ефекта, док егзогено дати ПТХ нормализује калциемиј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езистенција периферних ткива на ПТ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магнез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сеудохипопаратиреоидизам (рецепторски и пострецепторски дефекти): клиничка слика хипопаратиреоидизма уз нормалне вредности ПТ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о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457560" y="1142640"/>
            <a:ext cx="9906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атофизиолог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иохемијске промене: хипокалциемија, хиперфосфатемија, пораст ЦПК и АЛ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мускуларни поремећаји: повећана неуромишићна раздражљивост (од парестезија до грчева мишића), продужен QТ интерв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алцификације меких ткива (интракранијалне, очно сочив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о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457200" y="1218960"/>
            <a:ext cx="9601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слик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већана неуроми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ћна раздражљив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анифестн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парестезије лица у пределу усана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стију, тионичне и болне контракције (“акушерска шака”, карпопедални спазам), грч дијафрагме, псеудо-епилептични напади (очувана свест), настаје </a:t>
            </a:r>
            <a:r>
              <a:rPr b="1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понтан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1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овоциран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свакодневним активностима (ходање, рад, хипервенти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ција, стања алкалоз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Латентн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6520" indent="-438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vost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-ов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6520" indent="-438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use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-ов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6520" indent="-438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b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-ов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Chvostek</a:t>
            </a: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-ов зна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vostek-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na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познат и кa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iss-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n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један од з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кoвa хип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лцe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ч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 т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нијe, a рeф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јe абн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мал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j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aц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фацијал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г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р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ntišek Chvoste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је чeшко-аустриj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л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ји je oп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o oвaj знaк 1876. (независно oд њeгa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than Wei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883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228960" y="-360"/>
            <a:ext cx="9372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опаратиреоидиза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10515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слик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КГ: пролонгиран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QТ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инверзан Т талас, АВ бл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алцификације меког тки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нтракранијалне (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hr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– базалне ганглиј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20% пацијена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чно сочи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0" y="658800"/>
            <a:ext cx="914400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4 се дејодинише на периферији у T3 што чини 80%  T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руги метаболит T4 j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3 (rT3) који је метаболички инактива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3 улази у ћелије и везује се за групу нуклеарних рецептора, а затим утиче на многе ћелијске метаболичке ф-ј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алан ћелијски метаболиза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о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ијагноз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дређивање калцијума, фосфата, магнезијума у серу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дређивање ПТ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иференцијална дијагноза хипокалциемиј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ндром малапсорп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анкреатит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протеин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магнез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ронична бубрежна инсуфицијен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цит или резистенција на Витамин 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ПОЛИЕНДОКРИНЕ БОЛ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28600" y="15238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  групу полиендокриних болести спадај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ултипле ендокрине неоплазије (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игландуларни аутоимуни синдроми (ПГА) или синдроми имуноендокринопатиј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62480" y="-360"/>
            <a:ext cx="1074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МУЛТИПЛА ЕНДОКРИНА НЕОПЛАЗИЈ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Појава тумора у две или више  ендокриних жлезда назива се мултипла ендокрина неоплазиј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228960" y="0"/>
            <a:ext cx="9753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МУЛТИПЛА ЕНДОКРИНА НЕОПЛАЗИЈА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294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стражив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прошло је кроз 3 фаз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 фаза (дескриптивна фаза) у којој су описивана пуна клиничка слика и образац наслеђивање у појединим синдром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I фаза у којој су развијене скрининг технике пре него што се развије пуна клиничка сл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II фаза у којој је изучавана молекуларна и генетичка основа ових синдро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0880" y="533520"/>
            <a:ext cx="87631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Постој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главна типа МЕ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2, дели се на два подтип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2А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2Б (раније МЕН 3)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шани тип МЕН-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-685800" y="609120"/>
            <a:ext cx="9982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једничке карактеристике МЕН 1 и МЕН 2 с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ип ћелија које су укључене у неопластични процес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ви тумори показују хистолошку прогресију од хиперплазије ка аденому и, у неким случајевима, ка карцино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ој хиперплазије је мултицентрични процес (сваки фокус води порекло од једног клон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ваки од ових синдрома има АД начин наслеђивањ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-838440" y="914400"/>
            <a:ext cx="10287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ип ћелија које су укључене у неопластични процес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бично тумори су састављени од једног или више типова ћелија које производе специфичне полипептиде и биогене амине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U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U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ћелије имају заједничко порекло од неуралног гребена и имају нека својства слична неуроним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ки тумори нису састављени од овог типа ћелија: липоми удружени са МЕН 1 и ганглионеуриноми удружени са МЕН 2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МЕХАНИ</a:t>
            </a: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ЗМИ ТУМОРОГЕНЕЗ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синдроми имају различите механизме туморогенез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1 је изазван наследном мутацијом тумор-супресорног ге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и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2 је изазван активацијом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прото-онког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МЕХАНИ</a:t>
            </a: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ЗМИ ТУМОРОГЕНЕЗЕ МЕН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2860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е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и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лази се на дугом краку 11 хромозом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нтролише неке важне аспекте раста, диференцијације или ћелијске смр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убитак оба алела доводи до дисрегулације рас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МЕХАНИ</a:t>
            </a: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ЗМИ ТУМОРОГЕНЕЗЕ - МЕН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228960" y="1294920"/>
            <a:ext cx="9753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ен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протo-онкоге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о МЕН 2 синдрома долази активацијом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тo-онког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ве честе РЕТ мутације активирају тирозин-киназни рецeптор што довoди до дисрегулације раста ћелија које чине основу МЕН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914400" y="0"/>
            <a:ext cx="10591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онтрола секреције тиреоидних хормо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22896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тропин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лобађајућ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актор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ормо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Т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 или ТР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 хипоталам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ре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тиму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шућ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ТСХ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 аденохипофи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тања у којима је повећана потреба за синтезом АТП доводе до пораста секреције тиреоидних хорм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МЕН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51920" y="1371240"/>
            <a:ext cx="8991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1 је  асоциј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плазије или неоплазије (бенигне или малигне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тироидних жлезд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трваца панкреаса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физе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rm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54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МЕН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80880" y="1447560"/>
            <a:ext cx="9524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анифестациј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парaтироид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и острвацa панкреасa: гастрином, инсулином, глукагонoм, ВИП-ом (синдром воденe дијарејe, панкреасна колера), Панкреасни пеpтид (нема клиничке последице, али је користан маркер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деноми хипофизе: пролактином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bus Cush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продукција АЦТХ или ЦРФ), акромегал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ало: карционидни тумори, субкутани и висцерални липоми, кутани лејомио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МЕН 2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2А је асоцијација неоплазиј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Ц-ћелија штитасте жлезд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штитасте жлезде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ржи надбубрега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p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59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цес запoчињe 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пер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aз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јoм oдгoвaрajућ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ћел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нaк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je долази дo н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п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м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нута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кoј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e в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ном развијају микроскопски карциноми, а касније макроскопс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МЕН 2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80880" y="1371600"/>
            <a:ext cx="9524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анифестације МЕН 2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9880" indent="-268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ултицентрични медуларни карцином штитасте жлезд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9880" indent="-268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нилатерални или билатерал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феохромоцит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9880" indent="-268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еђ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1280" indent="-290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плазија или аденом паратироидне жлезде (10-35% случаје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1280" indent="-290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ало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chen amyloidosis, M. Hirschprung, struma ovarial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МЕН 2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12189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2Б је асоцијаcija неоплазиј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Ц-ћелија штитасте жлeзд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ржи надбубрега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равa (мултиплих мукозних неуринома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МЕН 2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609840" y="1371240"/>
            <a:ext cx="10134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анифестациј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3427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ултицентрични медуларни карцином штитасте жлезд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3427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нилатерални или билатерални феохромоцитом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3427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еђе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06440" indent="-290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и нерава: мукозни неуриноми представљају повећану величину и број нерава (лице, субкоњунктивална регија-задебљали корнеални нерви, усне итд.) и дифузна гастроинтестинална ганглионеуроматоза  (пролиферација нервних елемената мијентеричног у субмукозног плексуса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06440" indent="-290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ало: марфаноидни хабитус, пектус ексавату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06440" indent="-290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уги, танки екстремитети ит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34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МЕШАНИ ОБЛИЦИ МЕН-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4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l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синдром (Синдром преклапaњ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1 и MEН 2 са делимичним испољавaњ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eкласификовaни МЕН синдр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МЕШАНИ ОБЛИЦИ МЕН-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14479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la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синдр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синдром преклапaњa) укључ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следeћe варијaнте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арцин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 кoмб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ван сa МЕН 1 и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Н 2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 хипoф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тумор мед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e 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б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егa са и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без 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e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оидиз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aстрином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МЕН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деномaтoзна пo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к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на и МЕН 2Б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 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р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ф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МЕН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лактинoм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МЕН 2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еохрoмoцит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БОЛЕСТИ ШТИТАСТЕ ЖЛЕЗД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Поремећаји морфолог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генезија, аплазија, хипоплазија и ектоп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Дифузна стру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одозна струма (уни и полинодозн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Поремећаји функц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функиц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функц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Запаље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кут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убакут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ронич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16:05:40Z</dcterms:created>
  <dc:creator>Bill Gates</dc:creator>
  <dc:description/>
  <dc:language>en-US</dc:language>
  <cp:lastModifiedBy>Administrator</cp:lastModifiedBy>
  <dcterms:modified xsi:type="dcterms:W3CDTF">2015-08-30T13:19:02Z</dcterms:modified>
  <cp:revision>172</cp:revision>
  <dc:subject/>
  <dc:title>PATOLOŠKA FIZIOLOGIJA ENDOKRINOG SISTEMA</dc:title>
</cp:coreProperties>
</file>